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1DD-6C11-419F-B613-E5C470A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8C4-07FA-4C6A-BB78-FA779D6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BC2-C4CC-4893-B64D-6A24DDB4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A5D-A3BC-418D-8D90-166CF339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716-E1EF-4CC3-8901-160A762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5C1-C4BE-4D02-AA73-2980620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095-5781-4650-B882-2628BDD5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AE-1B65-4032-A290-DC162C3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FCC-BBCB-4AC4-B5CF-CC0A5E30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CEC-BCFB-4AD1-A2CB-9F272B8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F39-8307-4223-B370-9F6FB2A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3B8-7EE4-4ADE-A23E-B0433077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43DE-EBB5-4AC0-B7EC-67E4C946BE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E DE LIMBAJ PLA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IA DN PERSPECTIVA MARILOR AR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PAUL KL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naşte la 18 decembrie 1879 , în orăşelul Munchenbuchee , situat lângă Berna , în partea germană a Elveţ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1920 , noiembrie acceptă rugămintea colaboratorilor Şcolii Bauhaus de a lucra la catedra de pictur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1170000"/>
            <a:ext cx="3807000" cy="568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pe malul canalulu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femeie în pom (1903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3240" y="1690560"/>
            <a:ext cx="44575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carnival in the mountain(192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7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săritor (1930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41:48Z</dcterms:created>
  <dc:creator>cursant</dc:creator>
  <dc:description/>
  <dc:language>en-US</dc:language>
  <cp:lastModifiedBy>cursant</cp:lastModifiedBy>
  <dcterms:modified xsi:type="dcterms:W3CDTF">2010-09-02T07:43:36Z</dcterms:modified>
  <cp:revision>2</cp:revision>
  <dc:subject/>
  <dc:title>ELEMENTE DE LIMBAJ PLASTIC</dc:title>
</cp:coreProperties>
</file>